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44B-B26D-466C-B329-95489A5A2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65D7-B5E7-4371-8B34-BE7DD253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910-2E86-454C-9583-03C3FC99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08B0-7412-4F2B-84D5-3A4F5E59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AC4A-2289-4676-B972-C5271803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B76E-692C-4D9B-90F2-9E2DA532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B208-4FE8-4AF0-A778-32F4DE71E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30B4-8B06-4231-A099-941D3F0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6E5A-6711-495A-99A4-466F99F9E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7D2A-9D24-4267-9D37-68AE1693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9B07-C2DB-4F31-BABD-E6D88E4F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16B-C42E-45A5-90E5-52626B3C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390E-078A-43C3-BCAB-869B1305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064DA-13A9-4CE2-B0E3-C895D97E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57BC-4878-4E82-890C-B585D0D6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D099-3CED-480E-A202-88B957F9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8F3A-4137-40A0-87C5-854EBDE42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7D77-5FFF-43EF-851B-580AB2E4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67C9-4034-4A50-8783-9983C3B8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A0B-DCB9-4A16-BA68-2D5A137E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5471-2B38-461A-878C-BFEDF2C7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341D-6570-4783-AD7C-91F3B51F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CD0F-1599-49E8-8520-F8206331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98B6-7B16-4FA6-BF01-3B622205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C6C3-28CD-4BA9-8EDA-F7749204F96E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2A40-00CC-4410-AFE5-9596DBBD1FDC}" type="slidenum">
              <a:rPr b="0" lang="sr-Latn-C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51920" y="1767960"/>
            <a:ext cx="899172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5400" spc="-1" strike="noStrike">
                <a:solidFill>
                  <a:srgbClr val="dbbd71"/>
                </a:solidFill>
                <a:latin typeface="Arial"/>
              </a:rPr>
              <a:t>ELEKTRODIJAGNOSTIKA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Nedostaci 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 govori o stepenu promene i daljem razvoju bolesti u vidu mernih vred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 vodi računa o trajanju nadraža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ol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ači inteziteti “probijaju” u okolne mišić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Hronaksimetri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ko je nalaz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e ED negativan, a ne odgovar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j slic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;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spituje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vremensk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arakteristik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o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Hronaksija j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najk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vrem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otrebno d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impuls G intenziteta ravnom dvostrukom pragu izaz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ove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minimaln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okom vidljiv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ontrakcij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Prema Bourguignon-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hronaksija može bi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ratka: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06 - 0,14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srednj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16 - 0,34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ug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0,40 - 0,70 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novijoj literaturi do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1 m</a:t>
            </a:r>
            <a:r>
              <a:rPr b="1" lang="sr-Latn-CS" sz="3200" spc="-1" strike="noStrike">
                <a:solidFill>
                  <a:srgbClr val="a50021"/>
                </a:solidFill>
                <a:latin typeface="Swiss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42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Hronaksija nerv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u normalnim uslovima je ista - 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izohroniza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Hronaksimetrij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Hronaksija nerv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kod zdravog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je ista - 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izohroniza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od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nerva u prvoj fazi postoji sk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 hronaksije, a zatim njeno prod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(i preko 100 ms). Nervna vlakna su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ija od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, pa  elektr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 impulsi najpre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nerve, pa tek onda sam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. Ako je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zgubio svoju inervaciju (povreda, poli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..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) hronaksij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biti mnogo d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jer se ustvari od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je hronaksija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ih vlaka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rednosti hronaksimetrij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KRIVA INTENZITET - VREM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Horwig i Weiss: zavisnost intenziteta 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G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 potrebne za izazivanje minimalne okom vidljive kontrakcije i vremena proticanj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Kod 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oveka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 se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 vr</a:t>
            </a:r>
            <a:r>
              <a:rPr b="0" lang="sr-Latn-CS" sz="27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i  impulsima trajanja: 1000, 500, 100, 50, 10, 5, 1, 0,5, 0,1 i 0,05 ms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Swiss"/>
              </a:rPr>
              <a:t>Koeficijent akomodabiliteta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tanja 1"/>
          <p:cNvPicPr/>
          <p:nvPr/>
        </p:nvPicPr>
        <p:blipFill>
          <a:blip r:embed="rId1"/>
          <a:stretch/>
        </p:blipFill>
        <p:spPr>
          <a:xfrm>
            <a:off x="4038480" y="1994040"/>
            <a:ext cx="497376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76201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Dutch"/>
              </a:rPr>
              <a:t>Denervaciona kriva intenzitet - vrem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Dutch"/>
              </a:rPr>
              <a:t>Kriva intenzitet - vreme u fazi regeneracije nerv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6553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dbbd71"/>
                </a:solidFill>
                <a:latin typeface="Swiss"/>
              </a:rPr>
              <a:t>Elektrodegenerativna reakcija (EDR)</a:t>
            </a:r>
            <a:endParaRPr b="0" lang="en-US" sz="3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1849. D. de Boulogne ukazao na mog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sti razlikovanja centralnih od perifernih oduzetosti od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im 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1868.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Erb j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opisao elektrodegenerativne reakc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laz ispoljene EDR ukazuje da je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e lokalizovano na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PMN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, na samom nervnom stablu, na njegovim korenovima ili motornim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ijama prednjih rogova. Prognoza je l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ja kod lezije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ija prednjih rogova ili korenova, a bolja kod o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nja na samom nervnom stablu. EDR se </a:t>
            </a:r>
            <a:r>
              <a:rPr b="1" lang="en-US" sz="3200" spc="-1" strike="noStrike">
                <a:solidFill>
                  <a:srgbClr val="a50021"/>
                </a:solidFill>
                <a:latin typeface="Swiss"/>
              </a:rPr>
              <a:t>ne javlj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kod lokalizacija na CMN, korteksu, kortikospinalnim putevima ili samim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Swiss"/>
              </a:rPr>
              <a:t>S</a:t>
            </a:r>
            <a:r>
              <a:rPr b="0" lang="en-US" sz="4400" spc="-1" strike="noStrike">
                <a:solidFill>
                  <a:srgbClr val="dbbd71"/>
                </a:solidFill>
                <a:latin typeface="Swiss"/>
              </a:rPr>
              <a:t>tadijum</a:t>
            </a:r>
            <a:r>
              <a:rPr b="0" lang="sr-Latn-CS" sz="4400" spc="-1" strike="noStrike">
                <a:solidFill>
                  <a:srgbClr val="dbbd71"/>
                </a:solidFill>
                <a:latin typeface="Swiss"/>
              </a:rPr>
              <a:t>i</a:t>
            </a:r>
            <a:r>
              <a:rPr b="0" lang="en-US" sz="4400" spc="-1" strike="noStrike">
                <a:solidFill>
                  <a:srgbClr val="dbbd71"/>
                </a:solidFill>
                <a:latin typeface="Swiss"/>
              </a:rPr>
              <a:t> EDR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aki oblik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b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deli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c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potpu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d)   apsolutna ED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 sl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ju jasnog nalaza nisu neophodna druga ispitivanja. Kada se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m ED dobije negativan nalaz, uz nepodudarnost s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im stanjem, umesno je odrediti i hronaksiju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461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299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bd71"/>
                </a:solidFill>
                <a:latin typeface="Swiss"/>
              </a:rPr>
              <a:t>ELEKTRODIJAGNOSTIKA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Klasi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na elektrodijagnosti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Hronaksimetri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Kriva intenzitet-vre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Detekciona EM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Stimulaciona EMG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- SSE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52280" y="1981080"/>
          <a:ext cx="7386840" cy="3811680"/>
        </p:xfrm>
        <a:graphic>
          <a:graphicData uri="http://schemas.openxmlformats.org/drawingml/2006/table">
            <a:tbl>
              <a:tblPr/>
              <a:tblGrid>
                <a:gridCol w="1833840"/>
                <a:gridCol w="1831680"/>
                <a:gridCol w="1851120"/>
                <a:gridCol w="1870200"/>
              </a:tblGrid>
              <a:tr h="959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4 NEDELJ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2443320"/>
          <a:ext cx="7772400" cy="370332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46160"/>
                <a:gridCol w="1968480"/>
              </a:tblGrid>
              <a:tr h="97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6-8 NEDEL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arcijal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2260440"/>
          <a:ext cx="8229600" cy="3870360"/>
        </p:xfrm>
        <a:graphic>
          <a:graphicData uri="http://schemas.openxmlformats.org/drawingml/2006/table">
            <a:tbl>
              <a:tblPr/>
              <a:tblGrid>
                <a:gridCol w="2043000"/>
                <a:gridCol w="2041560"/>
                <a:gridCol w="2060640"/>
                <a:gridCol w="2084400"/>
              </a:tblGrid>
              <a:tr h="84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ormal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er\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32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I FUNKCIONALNI OPORAVAK ZA 8-12 NEDELJ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Komplet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68360" y="2505240"/>
          <a:ext cx="6977160" cy="3611520"/>
        </p:xfrm>
        <a:graphic>
          <a:graphicData uri="http://schemas.openxmlformats.org/drawingml/2006/table">
            <a:tbl>
              <a:tblPr/>
              <a:tblGrid>
                <a:gridCol w="1731960"/>
                <a:gridCol w="1730160"/>
                <a:gridCol w="1748160"/>
                <a:gridCol w="1766880"/>
              </a:tblGrid>
              <a:tr h="892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UN ILI DELIMIČNI OPORAVAK ZA 5 MES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Komplet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68360" y="2435400"/>
          <a:ext cx="6977160" cy="3681360"/>
        </p:xfrm>
        <a:graphic>
          <a:graphicData uri="http://schemas.openxmlformats.org/drawingml/2006/table">
            <a:tbl>
              <a:tblPr/>
              <a:tblGrid>
                <a:gridCol w="1731960"/>
                <a:gridCol w="1730160"/>
                <a:gridCol w="1748160"/>
                <a:gridCol w="1766880"/>
              </a:tblGrid>
              <a:tr h="96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hi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6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DELIMI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Č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NI OPORAVAK ZA VIŠE OD 6 MES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Apsolutna ED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685800" y="2514600"/>
          <a:ext cx="7772400" cy="363204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46160"/>
                <a:gridCol w="1968480"/>
              </a:tblGrid>
              <a:tr h="899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R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OBA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RONAKSIJ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IŠI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ma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duž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EPOTPUNI OPORAVAK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do ocene 2)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ZA VIŠE </a:t>
                      </a:r>
                      <a:r>
                        <a:rPr b="0" lang="sr-Latn-C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O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 6 MESEC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Ciljevi elektrodijagnostik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ostavlja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ili potvr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iva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dijagnoz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u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tvr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iva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stadijuma oboljenja ili povre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ra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i kontrol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efekata le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j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d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ono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j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prognosti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kih zaklju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a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Klasi</a:t>
            </a:r>
            <a:r>
              <a:rPr b="1" lang="sr-Latn-CS" sz="4400" spc="-1" strike="noStrike">
                <a:solidFill>
                  <a:srgbClr val="dbbd71"/>
                </a:solidFill>
                <a:latin typeface="Swiss"/>
              </a:rPr>
              <a:t>č</a:t>
            </a:r>
            <a:r>
              <a:rPr b="1" lang="en-US" sz="4400" spc="-1" strike="noStrike">
                <a:solidFill>
                  <a:srgbClr val="dbbd71"/>
                </a:solidFill>
                <a:latin typeface="Swiss"/>
              </a:rPr>
              <a:t>na elektrodijagnostika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ektrodijagnostika (ED), u 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m smislu 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, podrazumeva ispitivanja n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ljivosti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ca i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jednosmernom 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mpulsnom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i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izme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om niskofrekventnom strujom. Tome sl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 tzv. klas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 ED i hronaksimetri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dr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nje se vr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 u motornim t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ama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ca ("indirektno")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i mišića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("direktno"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malom ("aktivnom")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lektrodom, dok je v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("inaktivna") elektroda po pravilu fiksirana proksimalno, ili u predelu medijalne linij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rezultat 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se 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obel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va intenzitetom  kojim se post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e minimalna, okom vidljiva kontrakcija m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ostupak pri 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vo           F          K      zdrava    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a              G         A      bolesna   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ormalna reakcija je promptna kontrak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tetanička za F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ojedinačna (klonična) za 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Swiss"/>
              </a:rPr>
              <a:t>Kvantitativne promene nadra</a:t>
            </a:r>
            <a:r>
              <a:rPr b="1" lang="sr-Latn-CS" sz="4000" spc="-1" strike="noStrike">
                <a:solidFill>
                  <a:srgbClr val="dbbd71"/>
                </a:solidFill>
                <a:latin typeface="Swiss"/>
              </a:rPr>
              <a:t>ž</a:t>
            </a:r>
            <a:r>
              <a:rPr b="1" lang="en-US" sz="4000" spc="-1" strike="noStrike">
                <a:solidFill>
                  <a:srgbClr val="dbbd71"/>
                </a:solidFill>
                <a:latin typeface="Swiss"/>
              </a:rPr>
              <a:t>ljivosti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Na oboleloj strani kod o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te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ja PMN nadra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ljivost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ista kao i sa zdrave strane ("normalna")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smanjena u odnosu na zdravu stranu ("hipoekscitabilitet")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-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 pove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ana u odnosu na zdravu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stranu("hiperekscitabilitet"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uga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ena nadra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ljivost za </a:t>
            </a:r>
            <a:r>
              <a:rPr b="0" lang="sr-Latn-CS" sz="3600" spc="-1" strike="noStrike">
                <a:solidFill>
                  <a:srgbClr val="ffffff"/>
                </a:solidFill>
                <a:latin typeface="Swiss"/>
              </a:rPr>
              <a:t>F</a:t>
            </a:r>
            <a:r>
              <a:rPr b="0" lang="en-US" sz="3600" spc="-1" strike="noStrike">
                <a:solidFill>
                  <a:srgbClr val="ffffff"/>
                </a:solidFill>
                <a:latin typeface="Swiss"/>
              </a:rPr>
              <a:t>, tzv. reakcija Duchenne de Boulgo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Swiss"/>
              </a:rPr>
              <a:t>Kvalitativne promene nadra</a:t>
            </a:r>
            <a:r>
              <a:rPr b="1" lang="sr-Latn-CS" sz="3600" spc="-1" strike="noStrike">
                <a:solidFill>
                  <a:srgbClr val="dbbd71"/>
                </a:solidFill>
                <a:latin typeface="Swiss"/>
              </a:rPr>
              <a:t>ž</a:t>
            </a:r>
            <a:r>
              <a:rPr b="1" lang="en-US" sz="3600" spc="-1" strike="noStrike">
                <a:solidFill>
                  <a:srgbClr val="dbbd71"/>
                </a:solidFill>
                <a:latin typeface="Swiss"/>
              </a:rPr>
              <a:t>ljivosti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53452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Remakova kontr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Sporost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e kontrakcij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(crvuljasta, glistast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troma 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o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da se javi kod rashladjenja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nverzija polov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(inverzija formule) katoda/ano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Formula nad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jivosti: KZ&lt;AO&lt;AZ&lt;K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od lezije: v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 intezitet kod KZ nego kod AZ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ongitudinal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Distalno pomeranje motorne t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ke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azlog: obuhvatanje v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g broja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ih vlakana 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Galvanoto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Tetanička kontrakcija tokom proticanja 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wiss"/>
              </a:rPr>
              <a:t>Kod oboljenja samih mi</a:t>
            </a:r>
            <a:r>
              <a:rPr b="1" lang="sr-Latn-CS" sz="24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1" lang="en-US" sz="24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1" lang="sr-Latn-CS" sz="24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1" lang="en-US" sz="2400" spc="-1" strike="noStrike">
                <a:solidFill>
                  <a:srgbClr val="ffffff"/>
                </a:solidFill>
                <a:latin typeface="Swiss"/>
              </a:rPr>
              <a:t>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to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igidnost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a pri pokretima (Mb Thomsen). Pri indirektnom m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reaguje normalno. Pri direktnom d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ju javlja se nagla kontrakcija koja traje dugo, pop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ta postupno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ili v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š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sekundi posle prekida struje. Razlikuje se od Remak-ove reakcije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Hronaksija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traje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100 puta du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 no normal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otor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zuzetno iz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nim hipoekscitabilitetom za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F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i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(Mb Oppenheim). Hronaksija je nemerljiv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Mijasteni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na reakc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rz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iscrpljivanjem snage voljnih pokreta, kao i kontrakcija izazivanih elektrostimulacijom (Jolly). Iscrpljenost se oporavlja posle k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eg odmora, ali se javlja ponovo posle niza kontrahovanj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Pri regeneraciji 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ivca </a:t>
            </a:r>
            <a:r>
              <a:rPr b="1" lang="en-US" sz="2800" spc="-1" strike="noStrike">
                <a:solidFill>
                  <a:srgbClr val="a50021"/>
                </a:solidFill>
                <a:latin typeface="Swiss"/>
              </a:rPr>
              <a:t>PRVO  GALVANSKA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,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 pa pokret,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 a posle faradska nadra</a:t>
            </a:r>
            <a:r>
              <a:rPr b="0" lang="sr-Latn-CS" sz="2800" spc="-1" strike="noStrike">
                <a:solidFill>
                  <a:srgbClr val="ffffff"/>
                </a:solidFill>
                <a:latin typeface="Swiss"/>
              </a:rPr>
              <a:t>ž</a:t>
            </a:r>
            <a:r>
              <a:rPr b="0" lang="en-US" sz="2800" spc="-1" strike="noStrike">
                <a:solidFill>
                  <a:srgbClr val="ffffff"/>
                </a:solidFill>
                <a:latin typeface="Swiss"/>
              </a:rPr>
              <a:t>ljivos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dbbd71"/>
                </a:solidFill>
                <a:latin typeface="Arial"/>
              </a:rPr>
              <a:t>Prednosti E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bazič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jednostavna, pristupa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na, jas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- prakt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u vred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pristupačna širem krugu stručnja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Swis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upore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đ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ati sa klini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kim stanj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- prognoza isklju</a:t>
            </a:r>
            <a:r>
              <a:rPr b="0" lang="sr-Latn-CS" sz="3200" spc="-1" strike="noStrike">
                <a:solidFill>
                  <a:srgbClr val="ffffff"/>
                </a:solidFill>
                <a:latin typeface="Swiss"/>
              </a:rPr>
              <a:t>č</a:t>
            </a:r>
            <a:r>
              <a:rPr b="0" lang="en-US" sz="3200" spc="-1" strike="noStrike">
                <a:solidFill>
                  <a:srgbClr val="ffffff"/>
                </a:solidFill>
                <a:latin typeface="Swiss"/>
              </a:rPr>
              <a:t>ivo na osnovu ponovljenih ED nalaz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5T12:06:54Z</dcterms:created>
  <dc:creator>Milan Milosevic</dc:creator>
  <dc:description/>
  <dc:language>en-US</dc:language>
  <cp:lastModifiedBy>Info</cp:lastModifiedBy>
  <dcterms:modified xsi:type="dcterms:W3CDTF">2014-07-11T15:19:05Z</dcterms:modified>
  <cp:revision>43</cp:revision>
  <dc:subject/>
  <dc:title>ELEKTRODIJAGNOSTIKA</dc:title>
</cp:coreProperties>
</file>